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166-7B5A-43F4-91FB-5B38E103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076-80C0-4436-BD3C-47272DC5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8FEA-41E8-4289-ACD9-B8BA4A18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42C-676E-4D73-BF01-389371EE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8CD7-1B41-4347-9295-781945AD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182-84F4-4D7A-AAD2-15BCE7ED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A70-EE40-4213-87A3-90DCD1EB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917-043B-423C-9E03-A1BAA1C0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945-B1AE-45A0-987F-5F9800D2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462-7709-4590-8477-929AAE24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6B3-E594-4BCC-9609-7FF5FC56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310-7D5F-4FCC-AC26-87006314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578C-C445-41C1-AD2D-0FD877ED7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-7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3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COTTISH  INDOOR  ASSOC.        SCOTTISH  INDOOR  ASSOC.                      ABERDEEN                                    ABERDEEN                                      ABERDEEN  25TH                                  ALLANDER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4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UCHINLECK                                            AYR                                           BAINFIELD                                     BALBARDIE                                         BLANTYRE                                    BLANTYRE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N  ACCORD                                    BUCHAN                                   CASTLEMILK                                      CLYDEBANK                                       COATBRIDGE                                           COW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73240" y="191628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68520" y="1628640"/>
            <a:ext cx="1243080" cy="1281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4520" y="260280"/>
            <a:ext cx="1243080" cy="110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928880" y="26028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513240" y="26028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952880" y="26028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608880" y="115920"/>
            <a:ext cx="1060200" cy="121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8193240" y="260280"/>
            <a:ext cx="950760" cy="113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24520" y="1700280"/>
            <a:ext cx="102384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6608880" y="1484280"/>
            <a:ext cx="1206360" cy="13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8121600" y="184464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631800" y="3645000"/>
            <a:ext cx="93348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2073240" y="3429000"/>
            <a:ext cx="1225440" cy="123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3440160" y="3645000"/>
            <a:ext cx="1407960" cy="100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097600" y="364500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6608880" y="3284640"/>
            <a:ext cx="1279440" cy="1352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193240" y="350028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488880" y="5300640"/>
            <a:ext cx="126216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2073240" y="5445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5097600" y="5445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6681960" y="5445000"/>
            <a:ext cx="1169640" cy="1084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8193240" y="5084640"/>
            <a:ext cx="1315800" cy="141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488880" y="1916280"/>
            <a:ext cx="1082880" cy="1136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LLOA                                              ARBROATH                          ARBROATH  25TH                                ARDROSSAN                                          ARDROSSAN                                AUCHINL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0:23:11Z</dcterms:created>
  <dc:creator>John Young</dc:creator>
  <dc:description/>
  <dc:language>en-US</dc:language>
  <cp:lastModifiedBy>JY</cp:lastModifiedBy>
  <cp:lastPrinted>2000-10-18T00:23:58Z</cp:lastPrinted>
  <dcterms:modified xsi:type="dcterms:W3CDTF">2007-05-15T15:24:31Z</dcterms:modified>
  <cp:revision>10</cp:revision>
  <dc:subject/>
  <dc:title>No Slide Title</dc:title>
</cp:coreProperties>
</file>